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  <p:sldId id="305" r:id="rId64"/>
    <p:sldId id="306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slide" Target="slides/slide50.xml"/><Relationship Id="rId65" Type="http://schemas.openxmlformats.org/officeDocument/2006/relationships/slide" Target="slides/slide51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4BEB-4215-4953-B086-C3E1E9C646D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2F76-6318-411C-B2BA-C055E02B0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anor M. Savko</a:t>
            </a:r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0B5F-80A0-4709-9135-247708AE179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BF72-F6FB-4AA4-A8EA-4A7CAAB4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14C-9303-426A-A2A6-C8005E772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891CF9-A2FA-4E3A-9B2E-63150DA9F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1F4F06-4085-452E-BBAB-9144E7D24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12664-FFBD-4CE2-A73F-288995ADE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6A0E5-B081-42E6-9C2D-7786F975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B9FA7-6DBF-4967-A419-661A1228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EF5A5A-C49C-46C0-A682-4FCADC06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655CAC-54EC-43E2-8A5B-34AF4556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262F9-50BA-4DAE-9C0C-8E968969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139C2-70B0-493D-A862-92BF2BCA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FB0EA3-0BA5-4B24-BF14-624E9490F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F47B-3840-4445-93A0-218DDAC3C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47141-7606-4C65-BD9D-6D1A72A9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82A16-8874-4FB8-9438-71702B25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90BC73-96ED-4DC7-A8BD-B552C83E3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FECB0C-1AAC-43D4-B9FC-90670D37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4FD96-B361-4358-AAFF-C1FEBC34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0E186-9B63-443B-B71A-66D1D9E5D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985E1-0CF6-4A44-9F03-2FFFF666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1AC05-F14B-4AAE-815C-03AC95DE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E83F1-0BA7-4988-9570-6C28B4D42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D71D2-1D87-4CAA-A2F4-1E4C27F6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1B16-56E8-4C79-B7F4-79014CA8B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4441F2-AFE0-45C0-90C0-4E177B7A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2FCF3B-9DB0-41DE-82F8-62EA19ECD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89C11-0893-40E8-815A-EA3196DA2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68A3F-741A-4100-ACF1-5AECB47DA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52564D-0FFA-4D5E-A53E-466BC493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1C09D-0C29-478D-8A92-0B28D08C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487EAA-023B-4230-8F4B-4E3EA61A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72354-06AD-4FEA-A1BA-7C1C39E9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79F69-8DDC-4696-9451-F8FCF2CD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A63535-3542-4B5B-BF31-D6AE9F3A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45D17-780B-4B29-85AE-4AC4C608E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F1E5E8-9DA4-43AC-BBE4-F88C05A5E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1F21F5-10C7-4586-9949-5FDCEDBA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284E65-0672-48DC-939C-71BC2D0DD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FB9A7D-4190-48B3-BBC9-CE24E7696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24026-B98C-40A7-BAEB-57AD503E1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A360B-CFF4-4320-8091-A8B5843D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25FDB-8AD1-4966-A481-50A0A163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1969C1-3CFF-43A0-8DFD-FF5B026E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5DEBF9-D2D6-4BD1-B7D0-45E602765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6C4A3-CB2E-4340-B3DA-556F4C24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0EB3-940E-4F7C-A1A9-07B8E21AE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43F582-372D-4249-9A2C-4372C122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C247A-17F8-4B82-8D1E-4D3A6DDC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C8FB8C-FD02-4910-BCC2-6C6C4896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E1DB2C-ED63-4C61-8400-D1891C110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714E5E-37B3-45A0-9EDE-B84D9CB6F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F5D50-6A44-4C98-B9C1-3FB822AED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CFCFA-0B5A-440E-9CF6-0F4C514C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C795-B976-42F7-AD6D-3ABFFF41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F41A-A152-41F8-B9E3-C949836F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C485-9417-4224-A420-F7D80EDD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563-EB47-44B0-AE61-8F45F93C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9F74-965A-4E83-AC1F-8AD567FE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4B49-76A0-48FF-8A12-2B2A0C1F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24374-FAB1-43B0-ADA3-7EBC17A97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9994-C0E9-4268-A517-20B18DF99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2D101-F289-4D89-88F7-6A08585F8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330B-9875-4BC2-8710-0556614B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267CB-8427-405F-A7BC-59B6A489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9D11D-6EEE-475B-AB5D-D3E30195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4D032-B4FC-4234-BAB0-4716BA160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F2D0F-7B83-4B1E-A828-F929F4E0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07C-094C-4137-9A81-7BC28D705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8001D-8BF8-4364-A445-0C0E93D4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405BE-D81F-43B4-BEFD-5A6F53E91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1B39D-3859-4161-BCF9-3C389E74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5062D-FF22-45D8-A607-6068F412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0F2C27-2C39-47A7-96B5-55B096B4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899B32-C01E-494D-BAC1-DFA064686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8D1E8-A85B-4987-A3E3-C01421CCA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AB27C-A86E-4FF2-BEBC-5B869AEC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D0F1F-66AA-4B37-99C1-4B940BDD2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23405-3325-4495-8E0A-7CF7E116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8404-0213-4814-9CA5-6D094726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74235-5E24-4CF5-8228-8AC24FC80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87ED7-10F3-47E7-90AE-B0DAB4691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C402B-4705-4507-BFD4-55C711884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FC7D1-05F2-4E39-8D99-29C4BC62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7EE98-4C40-48A7-8B7B-F905D72DE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4A85E-2431-48A1-B06C-26478216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F4A03-56C9-49B7-AC96-F5F88160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6A8D0-A64D-4C35-9AF3-8E5F1114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7899D-6460-457E-AE51-55B5D4F9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44C931-FA69-485B-A740-4486EB4F3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0547-D82C-495B-B50F-FC081018C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2AD51-9E48-46FA-B20D-71188355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48366D-47D4-487B-9D57-4C8DD3B5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2BA18-461E-47BE-B26A-5D31083B3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F35FC-988A-416B-90DB-45A5DB1B0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5F8EE-3C88-4BCA-8E89-7134C963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6C0EA1-68A5-4AC5-B4E6-35682BF5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369EC-36A0-43F0-B9B5-F27B00B8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311D7-3212-4D4A-B9CA-BD97C5C9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A25E09-6D64-4397-B5FF-FC2ECAB5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C1216-901A-4743-B0CE-1F5704A64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180-5E77-4457-8321-242EEB5C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2389B-C310-4990-9FC3-0951BEDE5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E90D3-60DD-4F56-9EC8-80B5DF6AA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374D0C-84AB-4D71-B0FB-C216D942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A9D58-A97B-4309-8BA5-259FC3CA6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44CED-1BD4-4716-A878-E9CB1A22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4F7AD-0299-47F2-8C0F-01108CCB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2DB99A-047E-45DD-9E5E-EF14C1467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C4C61-ACB8-45B4-AD10-F51054E8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6ABCB-B6B2-4219-82EC-E4ECE7B4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73AB7-7EC4-4CBC-B1FF-837B20EE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F79B-4D96-407B-8A96-28D5224A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EFB90-94D2-4688-8DD5-17B8DC24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861C3-D07E-4437-9215-157582CD4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E2D7F-327C-4CD0-860F-5B9F25879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B91AA-0C43-4E1B-9798-8C237052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EE7C5-514F-4099-8F62-F6F90E08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A3A6BF-44BF-4446-9413-5CBC5EB00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CC30B-C11F-4027-B4BE-33653912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0F976-9A0B-4AF7-ACCE-29CB3B56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57195-92F2-4877-9812-7F936511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3C3702-8CBB-4402-B535-0508ADCE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2071-9335-4AB4-B851-3EB43DE0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CB084A-19BA-4F3C-8B38-F1F92938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41733-D076-4524-952B-9374F038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D6EF4-26BB-4756-BE79-059E398B3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FB109-DFE0-4BB2-A3E0-A49A95D69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584A9D-EC1F-453B-A381-99A82225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1873C-4217-4872-A4BE-F2397F12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1F51F-BF68-4B31-9BD7-034C144A0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2C364-8ADF-472F-A4C2-42CF0F06A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B558E4-F695-4A61-832A-DAA5A481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68E0C-0A98-4A59-96D1-46B7B60D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C5C0-EDAD-4F62-899E-119A8A2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3C234-E433-4549-A582-E63BF330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A781C-5DB2-42FB-8AF0-D07F6C3A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4BD4A-53D4-4F3A-86CC-8A20EBA9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EB2AB-F513-41C3-AEAB-08A61B1F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A619DD-3632-486F-AEB6-B45DC46F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6B188-D475-4015-8BAB-9C3E77B59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496BA-6A24-414D-B19C-41B4F20C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9C3539-FF69-4594-B0DB-BCCC47ED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DF058F-C956-4FCA-A5F2-CC48E5054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9C216-759E-481C-9AF1-C92EA5A0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81B9-3711-458C-AB63-965B700A13A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858B7-CA95-4CB7-B96A-0BDBD97CD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AEDA-4F60-4350-9334-6A950F52CD6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CBFD-294C-44D1-8FC7-3AB316022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C504-CFF2-44E7-9DFB-97FC91DACCE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2632-1937-4878-A87F-2131875DC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EC1CF-1A17-4C38-A6D5-2A7845A8200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75AE3-79CD-48F6-95FC-FCE337B26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5A56F-C016-48D6-BDCC-1BD0E56FA98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AD1C-984B-48AA-AFB5-BA00A54BE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C0D0-4072-4830-B982-654B557CFA8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E7E7-6B94-4A54-AD88-4AD12B1A23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417D6-4F96-41D9-A531-77C79084593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52991-2C18-4CAF-B113-A303EF2C7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1768-8B1A-4E51-BDD0-CEF1624DE99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120CF-106A-4CBE-80BD-FAA916EA0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773D-D26E-4EAA-AC30-639558AB588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ED60-DD84-49AD-B5AD-D615A6E1E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F510B-531E-4985-ACC8-627366830ED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7A9B-4B15-4CC7-884B-635AAB23F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106E-441F-4926-A04B-65388935176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6F32-3253-42E4-91ED-26C5E87F4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D417-AF26-4C15-AAE7-DFE7EC0455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DCBF-AFA4-4424-8C24-C805CB686C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slide24.xml"/><Relationship Id="rId23" Type="http://schemas.openxmlformats.org/officeDocument/2006/relationships/slide" Target=""/><Relationship Id="rId24" Type="http://schemas.openxmlformats.org/officeDocument/2006/relationships/slide" Target="slide26.xml"/><Relationship Id="rId25" Type="http://schemas.openxmlformats.org/officeDocument/2006/relationships/slide" Target=""/><Relationship Id="rId26" Type="http://schemas.openxmlformats.org/officeDocument/2006/relationships/slide" Target="slide28.xml"/><Relationship Id="rId27" Type="http://schemas.openxmlformats.org/officeDocument/2006/relationships/slide" Target=""/><Relationship Id="rId28" Type="http://schemas.openxmlformats.org/officeDocument/2006/relationships/slide" Target="slide30.xml"/><Relationship Id="rId29" Type="http://schemas.openxmlformats.org/officeDocument/2006/relationships/slide" Target=""/><Relationship Id="rId30" Type="http://schemas.openxmlformats.org/officeDocument/2006/relationships/slide" Target="slide32.xml"/><Relationship Id="rId31" Type="http://schemas.openxmlformats.org/officeDocument/2006/relationships/slide" Target=""/><Relationship Id="rId32" Type="http://schemas.openxmlformats.org/officeDocument/2006/relationships/slide" Target="slide34.xml"/><Relationship Id="rId3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8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3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4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00 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Garamond"/>
              </a:rPr>
              <a:t>100p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Lines &amp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Angl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Parallel &amp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Transversa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identif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Parallel &amp;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Transversal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solving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Triangles 1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halkduster"/>
                <a:ea typeface="Chalkduster"/>
              </a:rPr>
              <a:t>Triangles 2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Text Box 3"/>
          <p:cNvSpPr/>
          <p:nvPr/>
        </p:nvSpPr>
        <p:spPr>
          <a:xfrm>
            <a:off x="1605240" y="1295280"/>
            <a:ext cx="595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ind the value of x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0" name="Picture 4" descr=""/>
          <p:cNvPicPr/>
          <p:nvPr/>
        </p:nvPicPr>
        <p:blipFill>
          <a:blip r:embed="rId1"/>
          <a:srcRect l="77287" t="0" r="2430" b="35661"/>
          <a:stretch/>
        </p:blipFill>
        <p:spPr>
          <a:xfrm>
            <a:off x="1905120" y="2819520"/>
            <a:ext cx="5638680" cy="324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3758400" y="2133720"/>
            <a:ext cx="151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X=25</a:t>
            </a:r>
            <a:endParaRPr b="1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Text Box 4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e the angle relationship &amp; property between   1 and    2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8" name="Picture 5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8001000" cy="2919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3886200" y="152388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6629400" y="152388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2217960" y="2397240"/>
            <a:ext cx="4870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Vertical angles,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ngruen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e the angle relationship &amp; special property between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1&amp;   2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2743200" y="228600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"/>
              <p:cNvSpPr txBox="1"/>
              <p:nvPr/>
            </p:nvSpPr>
            <p:spPr>
              <a:xfrm>
                <a:off x="4267080" y="2133720"/>
                <a:ext cx="83844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589" name="Picture 6" descr=""/>
          <p:cNvPicPr/>
          <p:nvPr/>
        </p:nvPicPr>
        <p:blipFill>
          <a:blip r:embed="rId1"/>
          <a:srcRect l="41847" t="52544" r="40378" b="3347"/>
          <a:stretch/>
        </p:blipFill>
        <p:spPr>
          <a:xfrm>
            <a:off x="1600200" y="3124080"/>
            <a:ext cx="6172200" cy="3116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1631520" y="1828800"/>
            <a:ext cx="587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Alternate exterior,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ngruen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3962520" y="0"/>
            <a:ext cx="51814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e the angle relationship &amp; special property of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d &amp;    e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7" name="Picture 5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3581280" cy="4314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6629400" y="3733920"/>
                <a:ext cx="838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9" name=""/>
              <p:cNvSpPr txBox="1"/>
              <p:nvPr/>
            </p:nvSpPr>
            <p:spPr>
              <a:xfrm>
                <a:off x="4572000" y="3733920"/>
                <a:ext cx="838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708920" y="1863720"/>
            <a:ext cx="5746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Alternate interior,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ngruen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05" name="Picture 3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8001000" cy="2919240"/>
          </a:xfrm>
          <a:prstGeom prst="rect">
            <a:avLst/>
          </a:prstGeom>
          <a:ln w="0">
            <a:noFill/>
          </a:ln>
        </p:spPr>
      </p:pic>
      <p:sp>
        <p:nvSpPr>
          <p:cNvPr id="606" name="Rectangle 4"/>
          <p:cNvSpPr/>
          <p:nvPr/>
        </p:nvSpPr>
        <p:spPr>
          <a:xfrm>
            <a:off x="0" y="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e the angle relationship &amp; special property between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3&amp;     4.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7" name=""/>
              <p:cNvSpPr txBox="1"/>
              <p:nvPr/>
            </p:nvSpPr>
            <p:spPr>
              <a:xfrm>
                <a:off x="4267080" y="2286000"/>
                <a:ext cx="838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8" name=""/>
              <p:cNvSpPr txBox="1"/>
              <p:nvPr/>
            </p:nvSpPr>
            <p:spPr>
              <a:xfrm>
                <a:off x="2209680" y="2286000"/>
                <a:ext cx="838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1237320" y="1254240"/>
            <a:ext cx="6531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nsecutive interior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angles,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upplementary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Is angle 1 and 2 acute, obtuse, or right?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2" name="Picture 8" descr=""/>
          <p:cNvPicPr/>
          <p:nvPr/>
        </p:nvPicPr>
        <p:blipFill>
          <a:blip r:embed="rId1"/>
          <a:srcRect l="4066" t="0" r="4994" b="0"/>
          <a:stretch/>
        </p:blipFill>
        <p:spPr>
          <a:xfrm>
            <a:off x="1066680" y="2514600"/>
            <a:ext cx="7418520" cy="20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tate the angle relationship and special property of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6 &amp;   2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6" name="Picture 5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5333760" cy="3555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2514600" y="220968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4419720" y="220968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1005480" y="2133720"/>
            <a:ext cx="7023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rresponding angles,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ongruent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Text Box 3"/>
          <p:cNvSpPr/>
          <p:nvPr/>
        </p:nvSpPr>
        <p:spPr>
          <a:xfrm>
            <a:off x="1917000" y="304920"/>
            <a:ext cx="5260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  1 &amp;    2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4" descr=""/>
          <p:cNvPicPr/>
          <p:nvPr/>
        </p:nvPicPr>
        <p:blipFill>
          <a:blip r:embed="rId1"/>
          <a:srcRect l="41847" t="52544" r="40378" b="3347"/>
          <a:stretch/>
        </p:blipFill>
        <p:spPr>
          <a:xfrm>
            <a:off x="2209680" y="1371600"/>
            <a:ext cx="4572000" cy="478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6400800" y="304920"/>
                <a:ext cx="838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4495680" y="380880"/>
                <a:ext cx="8384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151800" y="1295280"/>
            <a:ext cx="2794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1=103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2=103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2" name="Picture 6" descr=""/>
          <p:cNvPicPr/>
          <p:nvPr/>
        </p:nvPicPr>
        <p:blipFill>
          <a:blip r:embed="rId1"/>
          <a:srcRect l="6853" t="0" r="74656" b="0"/>
          <a:stretch/>
        </p:blipFill>
        <p:spPr>
          <a:xfrm>
            <a:off x="1247760" y="5896080"/>
            <a:ext cx="990720" cy="961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3" name=""/>
              <p:cNvSpPr txBox="1"/>
              <p:nvPr/>
            </p:nvSpPr>
            <p:spPr>
              <a:xfrm>
                <a:off x="2133720" y="160020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057400" y="2590920"/>
                <a:ext cx="838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2730960" y="380880"/>
            <a:ext cx="352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8" name="Picture 5" descr=""/>
          <p:cNvPicPr/>
          <p:nvPr/>
        </p:nvPicPr>
        <p:blipFill>
          <a:blip r:embed="rId1"/>
          <a:srcRect l="6853" t="0" r="74656" b="0"/>
          <a:stretch/>
        </p:blipFill>
        <p:spPr>
          <a:xfrm>
            <a:off x="1752480" y="1447920"/>
            <a:ext cx="4953240" cy="4809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Text Box 5"/>
          <p:cNvSpPr/>
          <p:nvPr/>
        </p:nvSpPr>
        <p:spPr>
          <a:xfrm>
            <a:off x="3399840" y="2016000"/>
            <a:ext cx="23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12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Text Box 3"/>
          <p:cNvSpPr/>
          <p:nvPr/>
        </p:nvSpPr>
        <p:spPr>
          <a:xfrm>
            <a:off x="2807280" y="304920"/>
            <a:ext cx="352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5" name="Picture 4" descr=""/>
          <p:cNvPicPr/>
          <p:nvPr/>
        </p:nvPicPr>
        <p:blipFill>
          <a:blip r:embed="rId1"/>
          <a:srcRect l="42397" t="0" r="39643" b="16822"/>
          <a:stretch/>
        </p:blipFill>
        <p:spPr>
          <a:xfrm>
            <a:off x="1905120" y="1447920"/>
            <a:ext cx="5257800" cy="4389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3210840" y="2514600"/>
            <a:ext cx="23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54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Text Box 4"/>
          <p:cNvSpPr/>
          <p:nvPr/>
        </p:nvSpPr>
        <p:spPr>
          <a:xfrm>
            <a:off x="1290240" y="0"/>
            <a:ext cx="629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If   4=2x+25 and  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6=4x+35, Solve for x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5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010280" cy="4662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152280" y="838080"/>
                <a:ext cx="685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2133720" y="152280"/>
                <a:ext cx="7617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3293640" y="2514600"/>
            <a:ext cx="23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20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2666880" y="21337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acute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Text Box 3"/>
          <p:cNvSpPr/>
          <p:nvPr/>
        </p:nvSpPr>
        <p:spPr>
          <a:xfrm>
            <a:off x="0" y="228600"/>
            <a:ext cx="8953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 and y.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62" name="Picture 4" descr=""/>
          <p:cNvPicPr/>
          <p:nvPr/>
        </p:nvPicPr>
        <p:blipFill>
          <a:blip r:embed="rId1"/>
          <a:srcRect l="73409" t="3635" r="3683" b="13935"/>
          <a:stretch/>
        </p:blipFill>
        <p:spPr>
          <a:xfrm>
            <a:off x="1600200" y="1752480"/>
            <a:ext cx="5867280" cy="4529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Text Box 5"/>
          <p:cNvSpPr/>
          <p:nvPr/>
        </p:nvSpPr>
        <p:spPr>
          <a:xfrm>
            <a:off x="3249000" y="1711440"/>
            <a:ext cx="235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17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y=35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TextBox 3"/>
          <p:cNvSpPr/>
          <p:nvPr/>
        </p:nvSpPr>
        <p:spPr>
          <a:xfrm>
            <a:off x="2581920" y="533520"/>
            <a:ext cx="383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  1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0" name="Picture 5" descr=""/>
          <p:cNvPicPr/>
          <p:nvPr/>
        </p:nvPicPr>
        <p:blipFill>
          <a:blip r:embed="rId1"/>
          <a:srcRect l="5788" t="3672" r="76992" b="8011"/>
          <a:stretch/>
        </p:blipFill>
        <p:spPr>
          <a:xfrm>
            <a:off x="2362320" y="1600200"/>
            <a:ext cx="4495680" cy="4270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71" name=""/>
              <p:cNvSpPr txBox="1"/>
              <p:nvPr/>
            </p:nvSpPr>
            <p:spPr>
              <a:xfrm>
                <a:off x="5410080" y="609480"/>
                <a:ext cx="685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3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TextBox 4"/>
          <p:cNvSpPr/>
          <p:nvPr/>
        </p:nvSpPr>
        <p:spPr>
          <a:xfrm>
            <a:off x="3430440" y="2286000"/>
            <a:ext cx="22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1=61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6" name=""/>
              <p:cNvSpPr txBox="1"/>
              <p:nvPr/>
            </p:nvSpPr>
            <p:spPr>
              <a:xfrm>
                <a:off x="2209680" y="2438280"/>
                <a:ext cx="1067040" cy="97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TextBox 2"/>
          <p:cNvSpPr/>
          <p:nvPr/>
        </p:nvSpPr>
        <p:spPr>
          <a:xfrm>
            <a:off x="2972520" y="15228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9" name="Picture 4" descr=""/>
          <p:cNvPicPr/>
          <p:nvPr/>
        </p:nvPicPr>
        <p:blipFill>
          <a:blip r:embed="rId1"/>
          <a:srcRect l="6191" t="0" r="79434" b="0"/>
          <a:stretch/>
        </p:blipFill>
        <p:spPr>
          <a:xfrm>
            <a:off x="2362320" y="1219320"/>
            <a:ext cx="5105160" cy="4349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TextBox 4"/>
          <p:cNvSpPr/>
          <p:nvPr/>
        </p:nvSpPr>
        <p:spPr>
          <a:xfrm>
            <a:off x="3678480" y="2286000"/>
            <a:ext cx="227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25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TextBox 3"/>
          <p:cNvSpPr/>
          <p:nvPr/>
        </p:nvSpPr>
        <p:spPr>
          <a:xfrm>
            <a:off x="2787480" y="0"/>
            <a:ext cx="3521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7" name="Picture 5" descr=""/>
          <p:cNvPicPr/>
          <p:nvPr/>
        </p:nvPicPr>
        <p:blipFill>
          <a:blip r:embed="rId1"/>
          <a:srcRect l="38445" t="11610" r="42531" b="20192"/>
          <a:stretch/>
        </p:blipFill>
        <p:spPr>
          <a:xfrm>
            <a:off x="685800" y="1828800"/>
            <a:ext cx="7529400" cy="327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TextBox 4"/>
          <p:cNvSpPr/>
          <p:nvPr/>
        </p:nvSpPr>
        <p:spPr>
          <a:xfrm>
            <a:off x="3561840" y="2209680"/>
            <a:ext cx="23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65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TextBox 2"/>
          <p:cNvSpPr/>
          <p:nvPr/>
        </p:nvSpPr>
        <p:spPr>
          <a:xfrm>
            <a:off x="-380880" y="304920"/>
            <a:ext cx="10091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at is the length of segment AB?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94" name="Picture 4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5562720" cy="4222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TextBox 4"/>
          <p:cNvSpPr/>
          <p:nvPr/>
        </p:nvSpPr>
        <p:spPr>
          <a:xfrm>
            <a:off x="3191040" y="1752480"/>
            <a:ext cx="24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AB=5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-285840" y="0"/>
            <a:ext cx="9429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at angle is complementary to    JQN?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42" name="Picture 6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705360" cy="4170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6400800" y="838080"/>
                <a:ext cx="76212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1" name="TextBox 3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Given   a=4x+2,   b=3x-4, and    c=9x.  Solve for x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02" name="Picture 4" descr=""/>
          <p:cNvPicPr/>
          <p:nvPr/>
        </p:nvPicPr>
        <p:blipFill>
          <a:blip r:embed="rId1"/>
          <a:stretch/>
        </p:blipFill>
        <p:spPr>
          <a:xfrm>
            <a:off x="762120" y="2514600"/>
            <a:ext cx="6875280" cy="3403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03" name=""/>
              <p:cNvSpPr txBox="1"/>
              <p:nvPr/>
            </p:nvSpPr>
            <p:spPr>
              <a:xfrm>
                <a:off x="1752480" y="914400"/>
                <a:ext cx="754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4" name=""/>
              <p:cNvSpPr txBox="1"/>
              <p:nvPr/>
            </p:nvSpPr>
            <p:spPr>
              <a:xfrm>
                <a:off x="5562720" y="0"/>
                <a:ext cx="753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1981080" y="152280"/>
                <a:ext cx="7542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TextBox 4"/>
          <p:cNvSpPr/>
          <p:nvPr/>
        </p:nvSpPr>
        <p:spPr>
          <a:xfrm>
            <a:off x="2805840" y="2057400"/>
            <a:ext cx="325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91/8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1" name="Picture 4" descr=""/>
          <p:cNvPicPr/>
          <p:nvPr/>
        </p:nvPicPr>
        <p:blipFill>
          <a:blip r:embed="rId1"/>
          <a:srcRect l="71572" t="8582" r="7243" b="17163"/>
          <a:stretch/>
        </p:blipFill>
        <p:spPr>
          <a:xfrm>
            <a:off x="762120" y="1905120"/>
            <a:ext cx="7832520" cy="3352680"/>
          </a:xfrm>
          <a:prstGeom prst="rect">
            <a:avLst/>
          </a:prstGeom>
          <a:ln w="0">
            <a:noFill/>
          </a:ln>
        </p:spPr>
      </p:pic>
      <p:sp>
        <p:nvSpPr>
          <p:cNvPr id="712" name="Rectangle 4"/>
          <p:cNvSpPr/>
          <p:nvPr/>
        </p:nvSpPr>
        <p:spPr>
          <a:xfrm>
            <a:off x="0" y="152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, y, and z.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1447920" y="3048120"/>
            <a:ext cx="624816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Rectangle 5"/>
          <p:cNvSpPr/>
          <p:nvPr/>
        </p:nvSpPr>
        <p:spPr>
          <a:xfrm>
            <a:off x="2286000" y="2274840"/>
            <a:ext cx="4572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Z=45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X=45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Y=90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1030680" y="1482840"/>
            <a:ext cx="7252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Can you create a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Triangle with the given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ide lengths?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2, 3, 6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Rectangle 5"/>
          <p:cNvSpPr/>
          <p:nvPr/>
        </p:nvSpPr>
        <p:spPr>
          <a:xfrm>
            <a:off x="2286000" y="428760"/>
            <a:ext cx="4572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no!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2+3=5&lt;6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1319400" y="0"/>
            <a:ext cx="6741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List the sides in order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rom shortest to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Longest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27" name="Picture 5" descr="K2"/>
          <p:cNvPicPr/>
          <p:nvPr/>
        </p:nvPicPr>
        <p:blipFill>
          <a:blip r:embed="rId1"/>
          <a:srcRect l="40641" t="0" r="43609" b="11511"/>
          <a:stretch/>
        </p:blipFill>
        <p:spPr>
          <a:xfrm>
            <a:off x="2438280" y="2438280"/>
            <a:ext cx="4114800" cy="364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Rectangle 5"/>
          <p:cNvSpPr/>
          <p:nvPr/>
        </p:nvSpPr>
        <p:spPr>
          <a:xfrm>
            <a:off x="2433240" y="1752480"/>
            <a:ext cx="421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BJ&lt;PB&lt;PJ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878480" y="533520"/>
            <a:ext cx="5499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Solve for x and y. 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5" name="Picture 5" descr=""/>
          <p:cNvPicPr/>
          <p:nvPr/>
        </p:nvPicPr>
        <p:blipFill>
          <a:blip r:embed="rId1"/>
          <a:srcRect l="4969" t="5643" r="77433" b="26336"/>
          <a:stretch/>
        </p:blipFill>
        <p:spPr>
          <a:xfrm>
            <a:off x="1905120" y="2133720"/>
            <a:ext cx="5257800" cy="342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1447920" y="1799640"/>
            <a:ext cx="6248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Y=19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X=25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2590920" y="25909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NQL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2286000" y="2514600"/>
                <a:ext cx="14256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Text Box 4"/>
          <p:cNvSpPr/>
          <p:nvPr/>
        </p:nvSpPr>
        <p:spPr>
          <a:xfrm>
            <a:off x="-304920" y="152280"/>
            <a:ext cx="9448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Find   QDM and list the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Triangle side lengths in order from shortest to longest. 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2" name="Picture 5" descr="K2"/>
          <p:cNvPicPr/>
          <p:nvPr/>
        </p:nvPicPr>
        <p:blipFill>
          <a:blip r:embed="rId1"/>
          <a:srcRect l="75922" t="-618" r="2597" b="18333"/>
          <a:stretch/>
        </p:blipFill>
        <p:spPr>
          <a:xfrm>
            <a:off x="1676520" y="2209680"/>
            <a:ext cx="5948280" cy="3581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2286000" y="228600"/>
                <a:ext cx="685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152280" y="1600200"/>
            <a:ext cx="876312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QDM= 44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MQ&lt;QD&lt;MD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"/>
              <p:cNvSpPr txBox="1"/>
              <p:nvPr/>
            </p:nvSpPr>
            <p:spPr>
              <a:xfrm>
                <a:off x="2209680" y="1752480"/>
                <a:ext cx="6858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1219320" y="228600"/>
            <a:ext cx="70102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What angle is supplementary to   NQK?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2" name="Picture 5" descr=""/>
          <p:cNvPicPr/>
          <p:nvPr/>
        </p:nvPicPr>
        <p:blipFill>
          <a:blip r:embed="rId1"/>
          <a:stretch/>
        </p:blipFill>
        <p:spPr>
          <a:xfrm>
            <a:off x="1295280" y="2666880"/>
            <a:ext cx="6248520" cy="38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53" name=""/>
              <p:cNvSpPr txBox="1"/>
              <p:nvPr/>
            </p:nvSpPr>
            <p:spPr>
              <a:xfrm>
                <a:off x="2971800" y="1752480"/>
                <a:ext cx="838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Text Box 5"/>
          <p:cNvSpPr/>
          <p:nvPr/>
        </p:nvSpPr>
        <p:spPr>
          <a:xfrm>
            <a:off x="3536280" y="2168640"/>
            <a:ext cx="209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Verdana"/>
              </a:rPr>
              <a:t>KQP</a:t>
            </a:r>
            <a:endParaRPr b="1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8" name=""/>
              <p:cNvSpPr txBox="1"/>
              <p:nvPr/>
            </p:nvSpPr>
            <p:spPr>
              <a:xfrm>
                <a:off x="2286000" y="2133720"/>
                <a:ext cx="142560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Ð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2590920" y="2133720"/>
            <a:ext cx="388620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762120" y="1523880"/>
            <a:ext cx="70102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Find the value of x: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3" name="Picture 6" descr=""/>
          <p:cNvPicPr/>
          <p:nvPr/>
        </p:nvPicPr>
        <p:blipFill>
          <a:blip r:embed="rId1"/>
          <a:srcRect l="41309" t="0" r="38475" b="0"/>
          <a:stretch/>
        </p:blipFill>
        <p:spPr>
          <a:xfrm>
            <a:off x="2209680" y="2514600"/>
            <a:ext cx="5105520" cy="4578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3803040" y="2514600"/>
            <a:ext cx="1634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X=15</a:t>
            </a:r>
            <a:endParaRPr b="1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4T03:51:47Z</dcterms:created>
  <dc:creator>Eleanor M. Savko</dc:creator>
  <dc:description/>
  <dc:language>en-US</dc:language>
  <cp:lastModifiedBy>Karla Heath</cp:lastModifiedBy>
  <dcterms:modified xsi:type="dcterms:W3CDTF">2010-09-14T13:01:21Z</dcterms:modified>
  <cp:revision>47</cp:revision>
  <dc:subject/>
  <dc:title>Blank Jeopardy</dc:title>
</cp:coreProperties>
</file>